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3AEA-83F8-4C83-BFFD-F7AE9B26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E166-56D6-4159-AB2E-E7821BE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B9633-EE5F-43FF-B682-152FC99A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EC3E-B1F9-4181-8F29-6CDACDD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BCA9E-59D2-4FE7-BE23-99696ED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DA9A7-F86E-422F-933A-2C28698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A8E1-E811-4F69-B506-76E4A01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C10B-4939-4CFC-8750-8821D3E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99EA-4341-407D-AF79-993D362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BC511-8B0B-489B-BD37-EB7F8434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50DE4-F92C-411E-A6B5-6D761BEA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5C698E-B93B-42C9-BF88-B8645F40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D0FC-CC9D-4600-9147-9F26311F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9E4C3-C14F-4156-BEE1-3A46816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EC14B-03DC-4599-8599-0C283CE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029086-693A-4B28-9704-7EE236BE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89D64-0E7D-43DF-A7E2-118BB07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9FCED-03E7-45F3-A626-64BD8CB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F8B3A0-AC3A-405A-AAED-1A6035C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FA5EC4-757B-46AB-BEAA-84D5AAF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AE5AB9-BE50-4303-8EE5-EAA759F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11C340-FD4F-48B0-A370-EC1C1CD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3D153-D7DB-4D5A-A81B-AD7E0C67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E15F-95E7-4B81-BB7C-26766635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B9040-237F-4C0F-8A80-5017ADBA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0D0F-32E5-4CF2-8112-1F7C7EA7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9415D-6A26-49C6-8EAD-7BAFE0E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7470C-8995-46F5-A5A1-E0F4CF4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91BF7-9511-4127-BA0E-486CCB8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A6771-22DE-4F06-866D-3464C64A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E15D-C43C-4881-8F6D-2A79F536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CCD6-E9BD-4085-B494-FE89129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7CE2D-085D-458C-B3BF-812975B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C8F3D-5C9A-49CD-B046-9813D90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806-286B-4091-9C4F-11A0ACD1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DB78E-45ED-4058-AB1D-B63FB5E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B4386-7EAB-4EC0-AAEE-714A4C29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798AD-0C89-40D4-879A-4B2A3AAB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B4591D-38E5-4862-B84A-D5A31482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EF397D-289D-48C5-9B2B-87BBA51F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A07194-7BA6-4E3F-BFB6-4CF2230F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9A99C9-E03D-47E9-994B-C2B965B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E14491-B8AD-4805-9E17-24B2883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6DCD6F-168B-4B6B-A79D-F98689D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787577-B6D1-4DB8-97B9-8E60793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ABB-AAAA-42E2-BE8E-7CD22BB1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BC17E-F137-4D9B-86F4-6FFBB10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146B8A-238B-432B-9844-27AC1ED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E6AC1A-39F1-4E13-BD6A-1F81374A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DEA6A2-68B2-403A-A640-6470D42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5DECCC-6048-4357-BA96-E731AA57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8CED8-83FF-45E4-A83E-291F70A6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F3AB4-08BC-444A-BB01-3DF701D5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BC436-3BA5-44B5-92E0-015F2DC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C7BB2-1FA2-4A5F-AD66-E51F262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D96D0-BD6D-4D35-A2C8-21C17EE0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432-8F24-4804-8C86-BF70B2A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122DA-54C4-45AF-92B1-BC23A9C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8C496-3C14-4EC9-B957-D0910EE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0EE6D-86C3-424F-9E08-8BF4CBF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79D4E-366A-463B-94FB-AE171AB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16E2C-E5FE-403C-B517-33DAB5E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5FFE0-9013-4A34-883B-393B223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99B37-230F-4A3C-8EDF-5B0F505B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E2944-31B7-47E3-87AD-92CD39F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338D7-F6BA-470E-9D32-DC8CBC1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580FA-A8E0-4E41-BFA4-BD488AF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3F1A-F582-40D0-8E96-0647C203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8E139-8483-4D1B-AA83-D9729AC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B7421-2869-47C3-8DC7-D14F666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20237-9451-4A84-A925-98ECC35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CFC0B-EF8E-432F-8D8E-547C5F4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3C1C3-5A1C-4AD6-A7B0-8EC1F12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C9626-7758-4FAB-AF6E-61FF823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5501E-AE66-4C22-AE6B-6E5EE041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91C92-B933-4A12-9844-E872536F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10A69-C69C-4D7C-90B4-E1BCE714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4515-376D-4C3D-8E4C-1C39509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2538-0E74-4FFF-9CA2-FFA37C33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22DF-BA25-4371-A9AD-CB13160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7B80-617F-41CF-96CE-B7CAB02D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571-6F74-4158-8A9A-BA03670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450-7CDB-4175-A0A8-175DEB2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35AC-764A-4700-8DE5-C2AC6FC3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880-AB91-4B96-89FD-5BF332EE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5228-0A73-4098-BDB2-116548F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3A28-84C5-4EAD-A152-761EABC3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32AC-0F92-48EA-B927-EBD6DF3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EC7B-925F-4EE7-A54E-0494DC95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E746-DC99-4495-B73F-08F2BD6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9B75-E1AE-4732-AED9-5363613E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8EA5-A757-4F66-9382-9D55DB8D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5925-09E8-470C-BE93-9821292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30AA-2C4B-4010-BCF7-DBC413E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84B4-F9D1-4647-A7A6-811E406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06C9-019A-43DF-94F8-318FDEB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FADD-B5E9-4E89-B73B-4CD7471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327C-2DEB-4AF0-890F-98D2F54F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E664-A621-4D6E-A9E2-4FA49E0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C85E1-D049-4C4E-AEB9-E4753293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E817-6555-4135-9C21-8766305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DC22-36B4-432B-B059-92A42AC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EBA8-437C-43D2-8434-787C965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DDF8-E960-44CB-8445-A7E52E13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B0C5-7FEC-4716-A1BC-C28BF41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B64D-5238-44BA-B3FF-325E8818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709E-0F7C-4933-A0CC-E073A985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A16A-1BEE-4309-A810-5AD107D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5BDD-B412-4283-B3C7-FC2CB06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5B80-3F2B-4648-880A-C4A8F230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58EA-AABB-4DA6-A054-BD8624B3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18E9-E871-420A-A56E-5C600F7A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9692-57BB-4708-8DAB-9EBDC9F2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9157-9F8E-4FFA-964C-8C33EBA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1A19-E046-4097-8D95-75171CD8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FEF6-2E59-4CEC-9B0B-4296A4B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39AB-46F2-43A0-AF00-CD66137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08FE-5CE0-41C9-8D89-0B65A49E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E6F7-4DEB-4042-A9AD-1CFC4057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27079-3A27-4FC6-A9C5-EB6B074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2915-4FD4-4299-99C2-6056BBB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5EB5-B0A3-4353-B638-DD7624B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D658-9B09-4220-B952-C8DFD7E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F49F-BEC9-4138-8992-0CBCCB2A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CFF9-ED5B-4CF4-B9EA-D6E27EE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7B59-1740-4CB8-9433-8BC3F342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D0A7-BCDA-4AC7-ACF1-CABF0957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C368-96EF-4556-9804-DF3F8A2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AD98-2E8E-4296-A577-1483781F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8293-ED8C-446D-941A-781FD1D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1C78-A56F-40FB-9F55-34164B9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E06C-1FBE-463B-AEA8-999BDC2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0836-095D-4B30-BB48-DCA85B1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1B9A-09E7-4CE8-A22F-B0A3F76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A81C-352B-41AD-A53D-C500FDA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12F0-6AB4-418F-AA4A-5F57881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D894-7453-406A-9D3F-09EE507C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5C1F-36EB-4F54-A534-FEC32A4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DE1C-A9B0-44E5-947C-D4A93580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8AA21-7663-45DE-B12C-B28D052B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F205-3D59-4DC7-8425-EAB0D93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F4DD-79CB-4F18-A23E-F1EF7178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A685-1D0A-43CB-AEB0-0565F12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415D-2CAC-4861-8EBF-8C2B047E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26CA5-8E03-43EE-A6BF-8A206B9A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C754-8ABA-4500-B3EE-67B8C53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04AE-1F8C-4861-8C3D-981DF201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6712-FD79-4FB8-A416-35DB1F4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EBF9-F7E9-4792-A3AF-AC24EAF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75BE8-049B-4FFB-9F04-3F86B3FF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A817-17B3-4462-986B-EA92F53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DEA6-C10F-4740-AD08-20D03D5A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510A-08F5-4358-8EEB-EAF8F1A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D114-E276-417A-A683-E32BE144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73268-3AC6-458F-A903-DF9B1FF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147D-94C9-4BA8-A735-CF0D9481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5EFA-7EE1-43F4-BC85-0D3ED143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582D-46A8-4318-8331-AAB4D06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84411-0D71-48BA-BE8E-7E7B2F1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A66F-AE26-4D8C-8D58-C9DAFA9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EE569-2172-4BF7-A2CC-E3ED1E7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F6681-E8F5-4222-8950-8828FD5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2B2D-7E91-4BE7-96F0-6F3B9CE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0979-BFE7-4773-8922-93E84380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1ACFF-FAEB-4C63-9952-EBD4ADE4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48A7-EFE8-412E-86AF-3032CCE7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4A35A-1212-49E1-8F74-AB854E7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BA95-F80D-4DA0-B0FC-28883702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19D-0D16-4963-ADD0-40178EA6D5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2F9-96D2-43B7-ABBC-66E4AE662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2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2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2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7ED6-0977-49CA-84A2-576486B4B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7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8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8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9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050-B053-45AF-BD85-453CBE4F8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428E-1DC4-400A-805D-3DA106BBC0F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33B-943E-45C4-8651-E560A369E5A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15B-6A1E-40E8-AF0F-A176DEEAC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DD65-3370-4349-9920-3C97F1C188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B441-1B0A-4BE5-AD4E-3FE83B2EE9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6AEC-4353-4D25-A375-9F693EF44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57A-09B7-4CC8-B5BE-601060296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8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3529-7A20-4609-9F29-4DF23A08D1E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7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380-04DB-4237-8AE5-D59172123D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FC0-B339-41D6-9993-99C15841B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03324"/>
                </a:solidFill>
                <a:latin typeface="Garamond"/>
              </a:rPr>
              <a:t>La Rutina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324"/>
                </a:solidFill>
                <a:latin typeface="Garamond"/>
              </a:rPr>
              <a:t>La Rutina Diaria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pertar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ga 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despier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 la mañana del. Odia la mañana. Toga cae de la cama. Él todavía está muy cansad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unchy Rico come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desayu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Que come huevos y salchichas.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sie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02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a Duch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muchacho toma una ducha. El muchacha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e lav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el pel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181480" y="3317760"/>
            <a:ext cx="3657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eitar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e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afie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e afieta con  la nava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03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einar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pe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45000" cy="380988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634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nerse la Ro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 viejo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 pone la rop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4419720" y="2971800"/>
            <a:ext cx="182880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7:39Z</dcterms:created>
  <dc:creator>dassonimil</dc:creator>
  <dc:description/>
  <dc:language>en-US</dc:language>
  <cp:lastModifiedBy>dassonimil</cp:lastModifiedBy>
  <dcterms:modified xsi:type="dcterms:W3CDTF">2012-04-05T16:06:02Z</dcterms:modified>
  <cp:revision>9</cp:revision>
  <dc:subject/>
  <dc:title>La Rutina </dc:title>
</cp:coreProperties>
</file>